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29.png" ContentType="image/png"/>
  <Override PartName="/ppt/media/image13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7.wmf" ContentType="image/x-wmf"/>
  <Override PartName="/ppt/media/image38.wmf" ContentType="image/x-wmf"/>
  <Override PartName="/ppt/media/image18.png" ContentType="image/png"/>
  <Override PartName="/ppt/media/image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8.png" ContentType="image/png"/>
  <Override PartName="/ppt/media/image31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095-08A6-43B9-A90F-6ACDC2EA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25B-4EF6-482C-B180-F93A69F0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D96-8EA3-4517-91C3-A30852EE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A4F-A4DC-4F30-AEC4-B184E2F0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FC9E-CBE7-425B-A2CB-B27DD203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C54E-2610-4647-8FF0-31E252FB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7B1A-5FB1-4443-A065-F1EAC139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854A-9BD2-44FB-BD7C-78C640D9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9ACC-9BF8-43C7-AC33-22E7EAD8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5BEC-CBF9-4EDF-B0A1-8A34C2D3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63AE-BD75-4D8B-931D-DD45F5CE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76C-D39A-4FC7-8BD2-CF885876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DCFA-F868-46EC-9E48-6C7DFCD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120B-32B1-4E89-9CD5-674F0795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E198-47B8-4AAE-B945-C1D908F5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B3B1-A741-41BC-95D5-A7987CF2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00AD-F804-4AA2-A340-9BB2B96A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98B-BD27-44DC-9862-F05B3121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8BD-3396-42C4-93EF-1B5C57D5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A5C-35D8-426A-81AB-DBC42A43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CC1-3520-41EE-AE51-67728812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8CB-2C68-473E-B18C-AA9855A5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E71-1645-404B-B99D-B3B29D89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7F2-DAF5-4E72-8919-601F86D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F066-4AF4-486B-A5D3-A3254D91E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yangkang\Desktop\TO-卡瓦\首界面.jpg"/>
          <p:cNvPicPr/>
          <p:nvPr/>
        </p:nvPicPr>
        <p:blipFill>
          <a:blip r:embed="rId4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4671-C079-4EC3-A48A-85CD200D0F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147760"/>
            <a:ext cx="777240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ЮДЖЕТ ДЛЯ ГРАЖД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Georgia"/>
              </a:rPr>
              <a:t>к утвержденному  бюджету ЗАТО Михайловский на 2018 год и плановый период 2019 и 2020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s://images.vector-images.com/64/mikhaylovskyi_zato_coa.gif"/>
          <p:cNvPicPr/>
          <p:nvPr/>
        </p:nvPicPr>
        <p:blipFill>
          <a:blip r:embed="rId1"/>
          <a:stretch/>
        </p:blipFill>
        <p:spPr>
          <a:xfrm>
            <a:off x="3843360" y="243000"/>
            <a:ext cx="1457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эконом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Содержимое 3" descr=""/>
          <p:cNvPicPr/>
          <p:nvPr/>
        </p:nvPicPr>
        <p:blipFill>
          <a:blip r:embed="rId1"/>
          <a:stretch/>
        </p:blipFill>
        <p:spPr>
          <a:xfrm>
            <a:off x="4160880" y="930240"/>
            <a:ext cx="4360680" cy="2722680"/>
          </a:xfrm>
          <a:prstGeom prst="rect">
            <a:avLst/>
          </a:prstGeom>
          <a:ln w="0">
            <a:noFill/>
          </a:ln>
        </p:spPr>
      </p:pic>
      <p:pic>
        <p:nvPicPr>
          <p:cNvPr id="200" name="Диаграмма 4" descr=""/>
          <p:cNvPicPr/>
          <p:nvPr/>
        </p:nvPicPr>
        <p:blipFill>
          <a:blip r:embed="rId2"/>
          <a:stretch/>
        </p:blipFill>
        <p:spPr>
          <a:xfrm>
            <a:off x="344520" y="3738600"/>
            <a:ext cx="58626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ПОКАЗАТЕЛИ СОЦИАЛЬНО- ЭКОНОМИЧЕСКОГО РАЗВИТ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О МИХАЙЛОВСКИЙ ЗА 2016 ГОД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600200"/>
          <a:ext cx="8229600" cy="4768920"/>
        </p:xfrm>
        <a:graphic>
          <a:graphicData uri="http://schemas.openxmlformats.org/drawingml/2006/table">
            <a:tbl>
              <a:tblPr/>
              <a:tblGrid>
                <a:gridCol w="5194440"/>
                <a:gridCol w="1512720"/>
                <a:gridCol w="1522440"/>
              </a:tblGrid>
              <a:tr h="60408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населения на конец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отгруженных товаров собственного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заработная пл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 розничной торгов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 общественного п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платных услуг населению, в том числе бытовы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размер трудовой пен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5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значение уровня безработицы по городскому окру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объема муниципального долга к общему объему доходов бюджета ЗАТО Михайловский без учета объемов безвозмездных поступлений на 01.01.2017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9"/>
          <p:cNvSpPr/>
          <p:nvPr/>
        </p:nvSpPr>
        <p:spPr>
          <a:xfrm>
            <a:off x="4148280" y="1135080"/>
            <a:ext cx="1576080" cy="409680"/>
          </a:xfrm>
          <a:prstGeom prst="rect">
            <a:avLst/>
          </a:prstGeom>
          <a:solidFill>
            <a:srgbClr val="d6ecee">
              <a:alpha val="5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0"/>
          <p:cNvSpPr/>
          <p:nvPr/>
        </p:nvSpPr>
        <p:spPr>
          <a:xfrm>
            <a:off x="6168960" y="1135080"/>
            <a:ext cx="1560600" cy="409680"/>
          </a:xfrm>
          <a:prstGeom prst="rect">
            <a:avLst/>
          </a:prstGeom>
          <a:solidFill>
            <a:srgbClr val="d6ecee">
              <a:alpha val="5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611280" y="1159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rebuchet MS"/>
              </a:rPr>
              <a:t>Средняя заработная плата в  сфере образования </a:t>
            </a: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Trebuchet MS"/>
              </a:rPr>
              <a:t>и культуры,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2"/>
          <p:cNvSpPr/>
          <p:nvPr/>
        </p:nvSpPr>
        <p:spPr>
          <a:xfrm>
            <a:off x="539640" y="1773360"/>
            <a:ext cx="259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0200"/>
                </a:solidFill>
                <a:latin typeface="Times New Roman"/>
                <a:ea typeface="Times New Roman"/>
              </a:rPr>
              <a:t>Пед.работники общеобразовательных учреж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3"/>
          <p:cNvSpPr/>
          <p:nvPr/>
        </p:nvSpPr>
        <p:spPr>
          <a:xfrm>
            <a:off x="611280" y="292428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0200"/>
                </a:solidFill>
                <a:latin typeface="Times New Roman"/>
                <a:ea typeface="Times New Roman"/>
              </a:rPr>
              <a:t>Пед.работники дошкольных образовательных учреж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4"/>
          <p:cNvSpPr/>
          <p:nvPr/>
        </p:nvSpPr>
        <p:spPr>
          <a:xfrm>
            <a:off x="611280" y="4221000"/>
            <a:ext cx="225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0200"/>
                </a:solidFill>
                <a:latin typeface="Times New Roman"/>
                <a:ea typeface="Times New Roman"/>
              </a:rPr>
              <a:t>Пед.работники дополнительного образования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5"/>
          <p:cNvSpPr/>
          <p:nvPr/>
        </p:nvSpPr>
        <p:spPr>
          <a:xfrm>
            <a:off x="684720" y="5661000"/>
            <a:ext cx="214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0200"/>
                </a:solidFill>
                <a:latin typeface="Times New Roman"/>
                <a:ea typeface="Times New Roman"/>
              </a:rPr>
              <a:t>Работники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6"/>
          <p:cNvSpPr/>
          <p:nvPr/>
        </p:nvSpPr>
        <p:spPr>
          <a:xfrm>
            <a:off x="6372360" y="4437000"/>
            <a:ext cx="1466640" cy="379440"/>
          </a:xfrm>
          <a:prstGeom prst="rect">
            <a:avLst/>
          </a:prstGeom>
          <a:solidFill>
            <a:srgbClr val="d6ecee">
              <a:alpha val="14000"/>
            </a:srgbClr>
          </a:solidFill>
          <a:ln w="6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15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3780000" y="4365720"/>
            <a:ext cx="1466640" cy="379440"/>
          </a:xfrm>
          <a:prstGeom prst="rect">
            <a:avLst/>
          </a:prstGeom>
          <a:solidFill>
            <a:srgbClr val="d6ecee">
              <a:alpha val="14000"/>
            </a:srgbClr>
          </a:solidFill>
          <a:ln w="6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014,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6227640" y="5661000"/>
            <a:ext cx="1467000" cy="379440"/>
          </a:xfrm>
          <a:prstGeom prst="rect">
            <a:avLst/>
          </a:prstGeom>
          <a:solidFill>
            <a:srgbClr val="d6ecee">
              <a:alpha val="14000"/>
            </a:srgbClr>
          </a:solidFill>
          <a:ln w="6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9"/>
          <p:cNvSpPr/>
          <p:nvPr/>
        </p:nvSpPr>
        <p:spPr>
          <a:xfrm>
            <a:off x="4067280" y="5661000"/>
            <a:ext cx="1466640" cy="379440"/>
          </a:xfrm>
          <a:prstGeom prst="rect">
            <a:avLst/>
          </a:prstGeom>
          <a:solidFill>
            <a:srgbClr val="d6ecee">
              <a:alpha val="14000"/>
            </a:srgbClr>
          </a:solidFill>
          <a:ln w="6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58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0"/>
          <p:cNvSpPr/>
          <p:nvPr/>
        </p:nvSpPr>
        <p:spPr>
          <a:xfrm>
            <a:off x="3780000" y="1989000"/>
            <a:ext cx="1466640" cy="379440"/>
          </a:xfrm>
          <a:prstGeom prst="rect">
            <a:avLst/>
          </a:prstGeom>
          <a:solidFill>
            <a:srgbClr val="d6ecee">
              <a:alpha val="14000"/>
            </a:srgbClr>
          </a:solidFill>
          <a:ln w="6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56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1"/>
          <p:cNvSpPr/>
          <p:nvPr/>
        </p:nvSpPr>
        <p:spPr>
          <a:xfrm>
            <a:off x="6084720" y="1916280"/>
            <a:ext cx="1467000" cy="379080"/>
          </a:xfrm>
          <a:prstGeom prst="rect">
            <a:avLst/>
          </a:prstGeom>
          <a:solidFill>
            <a:srgbClr val="d6ecee">
              <a:alpha val="14000"/>
            </a:srgbClr>
          </a:solidFill>
          <a:ln w="6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15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2"/>
          <p:cNvSpPr/>
          <p:nvPr/>
        </p:nvSpPr>
        <p:spPr>
          <a:xfrm>
            <a:off x="3780000" y="3213000"/>
            <a:ext cx="1466640" cy="379440"/>
          </a:xfrm>
          <a:prstGeom prst="rect">
            <a:avLst/>
          </a:prstGeom>
          <a:solidFill>
            <a:srgbClr val="d6ecee">
              <a:alpha val="14000"/>
            </a:srgbClr>
          </a:solidFill>
          <a:ln w="6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47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3"/>
          <p:cNvSpPr/>
          <p:nvPr/>
        </p:nvSpPr>
        <p:spPr>
          <a:xfrm>
            <a:off x="6227640" y="3243240"/>
            <a:ext cx="1467000" cy="379440"/>
          </a:xfrm>
          <a:prstGeom prst="rect">
            <a:avLst/>
          </a:prstGeom>
          <a:solidFill>
            <a:srgbClr val="d6ecee">
              <a:alpha val="14000"/>
            </a:srgbClr>
          </a:solidFill>
          <a:ln w="64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15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верх 24"/>
          <p:cNvSpPr/>
          <p:nvPr/>
        </p:nvSpPr>
        <p:spPr>
          <a:xfrm>
            <a:off x="7846920" y="1943280"/>
            <a:ext cx="252360" cy="583920"/>
          </a:xfrm>
          <a:prstGeom prst="upArrow">
            <a:avLst>
              <a:gd name="adj1" fmla="val 50000"/>
              <a:gd name="adj2" fmla="val 49983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верх 25"/>
          <p:cNvSpPr/>
          <p:nvPr/>
        </p:nvSpPr>
        <p:spPr>
          <a:xfrm>
            <a:off x="7846920" y="3054240"/>
            <a:ext cx="252360" cy="584280"/>
          </a:xfrm>
          <a:prstGeom prst="upArrow">
            <a:avLst>
              <a:gd name="adj1" fmla="val 50000"/>
              <a:gd name="adj2" fmla="val 50014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верх 26"/>
          <p:cNvSpPr/>
          <p:nvPr/>
        </p:nvSpPr>
        <p:spPr>
          <a:xfrm>
            <a:off x="7875720" y="4241880"/>
            <a:ext cx="250560" cy="584280"/>
          </a:xfrm>
          <a:prstGeom prst="upArrow">
            <a:avLst>
              <a:gd name="adj1" fmla="val 50000"/>
              <a:gd name="adj2" fmla="val 50060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трелка вверх 27"/>
          <p:cNvSpPr/>
          <p:nvPr/>
        </p:nvSpPr>
        <p:spPr>
          <a:xfrm>
            <a:off x="7875720" y="5459400"/>
            <a:ext cx="250560" cy="584280"/>
          </a:xfrm>
          <a:prstGeom prst="upArrow">
            <a:avLst>
              <a:gd name="adj1" fmla="val 50000"/>
              <a:gd name="adj2" fmla="val 50060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8"/>
          <p:cNvSpPr/>
          <p:nvPr/>
        </p:nvSpPr>
        <p:spPr>
          <a:xfrm>
            <a:off x="8083440" y="1916280"/>
            <a:ext cx="1060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+107,4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9"/>
          <p:cNvSpPr/>
          <p:nvPr/>
        </p:nvSpPr>
        <p:spPr>
          <a:xfrm>
            <a:off x="8115480" y="3243240"/>
            <a:ext cx="10602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+103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0"/>
          <p:cNvSpPr/>
          <p:nvPr/>
        </p:nvSpPr>
        <p:spPr>
          <a:xfrm>
            <a:off x="8145360" y="4435560"/>
            <a:ext cx="1062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+110,6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1"/>
          <p:cNvSpPr/>
          <p:nvPr/>
        </p:nvSpPr>
        <p:spPr>
          <a:xfrm>
            <a:off x="8145360" y="5643720"/>
            <a:ext cx="1062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+118,4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3"/>
          <p:cNvSpPr/>
          <p:nvPr/>
        </p:nvSpPr>
        <p:spPr>
          <a:xfrm>
            <a:off x="882720" y="90360"/>
            <a:ext cx="73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4c6a"/>
                </a:solidFill>
                <a:latin typeface="Arial"/>
                <a:ea typeface="Arial"/>
              </a:rPr>
              <a:t>Бюджетный</a:t>
            </a:r>
            <a:r>
              <a:rPr b="0" lang="ru-RU" sz="2800" spc="-1" strike="noStrike">
                <a:solidFill>
                  <a:srgbClr val="284c6a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284c6a"/>
                </a:solidFill>
                <a:latin typeface="Arial"/>
                <a:ea typeface="Arial"/>
              </a:rPr>
              <a:t>прог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Диаграмма 7" descr=""/>
          <p:cNvPicPr/>
          <p:nvPr/>
        </p:nvPicPr>
        <p:blipFill>
          <a:blip r:embed="rId1"/>
          <a:stretch/>
        </p:blipFill>
        <p:spPr>
          <a:xfrm>
            <a:off x="-187200" y="563400"/>
            <a:ext cx="6870600" cy="3132360"/>
          </a:xfrm>
          <a:prstGeom prst="rect">
            <a:avLst/>
          </a:prstGeom>
          <a:ln w="0">
            <a:noFill/>
          </a:ln>
        </p:spPr>
      </p:pic>
      <p:pic>
        <p:nvPicPr>
          <p:cNvPr id="228" name="Диаграмма 8" descr=""/>
          <p:cNvPicPr/>
          <p:nvPr/>
        </p:nvPicPr>
        <p:blipFill>
          <a:blip r:embed="rId2"/>
          <a:stretch/>
        </p:blipFill>
        <p:spPr>
          <a:xfrm>
            <a:off x="-14400" y="3506760"/>
            <a:ext cx="4637160" cy="3402000"/>
          </a:xfrm>
          <a:prstGeom prst="rect">
            <a:avLst/>
          </a:prstGeom>
          <a:ln w="0">
            <a:noFill/>
          </a:ln>
        </p:spPr>
      </p:pic>
      <p:pic>
        <p:nvPicPr>
          <p:cNvPr id="229" name="Диаграмма 9" descr=""/>
          <p:cNvPicPr/>
          <p:nvPr/>
        </p:nvPicPr>
        <p:blipFill>
          <a:blip r:embed="rId3"/>
          <a:stretch/>
        </p:blipFill>
        <p:spPr>
          <a:xfrm>
            <a:off x="4305240" y="3449520"/>
            <a:ext cx="4133880" cy="3459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s://cdn.pixabay.com/photo/2013/07/13/12/34/coins-159889_1280.png"/>
          <p:cNvPicPr/>
          <p:nvPr/>
        </p:nvPicPr>
        <p:blipFill>
          <a:blip r:embed="rId4"/>
          <a:stretch/>
        </p:blipFill>
        <p:spPr>
          <a:xfrm>
            <a:off x="6372360" y="476280"/>
            <a:ext cx="245556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доходной части бюджета городского округа ЗАТО Михайловски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6-2020 г. (млн. руб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6"/>
          <p:cNvGraphicFramePr/>
          <p:nvPr/>
        </p:nvGraphicFramePr>
        <p:xfrm>
          <a:off x="85680" y="1309680"/>
          <a:ext cx="8575560" cy="51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309680"/>
                    <a:ext cx="857556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Picture 7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152388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510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возмездные поступл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юджет ЗАТО Михайловский 2016-2020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ject 3" descr=""/>
          <p:cNvPicPr/>
          <p:nvPr/>
        </p:nvPicPr>
        <p:blipFill>
          <a:blip r:embed="rId1"/>
          <a:stretch/>
        </p:blipFill>
        <p:spPr>
          <a:xfrm>
            <a:off x="179280" y="1938240"/>
            <a:ext cx="5523120" cy="463716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5" descr=""/>
          <p:cNvPicPr/>
          <p:nvPr/>
        </p:nvPicPr>
        <p:blipFill>
          <a:blip r:embed="rId2"/>
          <a:stretch/>
        </p:blipFill>
        <p:spPr>
          <a:xfrm>
            <a:off x="4745160" y="2185920"/>
            <a:ext cx="5019480" cy="32958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826920" y="1413000"/>
            <a:ext cx="4032360" cy="431640"/>
          </a:xfrm>
          <a:prstGeom prst="rect">
            <a:avLst/>
          </a:prstGeom>
          <a:solidFill>
            <a:srgbClr val="2dc8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5219640" y="1413000"/>
            <a:ext cx="3637080" cy="863640"/>
          </a:xfrm>
          <a:prstGeom prst="rect">
            <a:avLst/>
          </a:prstGeom>
          <a:solidFill>
            <a:srgbClr val="2dc8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уктура безвозмез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уплений на 2018 год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 rot="3904200">
            <a:off x="2103120" y="4589280"/>
            <a:ext cx="1076400" cy="165240"/>
          </a:xfrm>
          <a:prstGeom prst="rightArrow">
            <a:avLst>
              <a:gd name="adj1" fmla="val 50000"/>
              <a:gd name="adj2" fmla="val 71535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 flipV="1" rot="4042800">
            <a:off x="1187280" y="3207240"/>
            <a:ext cx="1351080" cy="167040"/>
          </a:xfrm>
          <a:prstGeom prst="rightArrow">
            <a:avLst>
              <a:gd name="adj1" fmla="val 50000"/>
              <a:gd name="adj2" fmla="val 6234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2"/>
          <p:cNvSpPr/>
          <p:nvPr/>
        </p:nvSpPr>
        <p:spPr>
          <a:xfrm flipV="1" rot="20757600">
            <a:off x="3065400" y="5209200"/>
            <a:ext cx="482760" cy="136440"/>
          </a:xfrm>
          <a:prstGeom prst="rightArrow">
            <a:avLst>
              <a:gd name="adj1" fmla="val 50000"/>
              <a:gd name="adj2" fmla="val 6313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2"/>
          <p:cNvSpPr/>
          <p:nvPr/>
        </p:nvSpPr>
        <p:spPr>
          <a:xfrm flipV="1" rot="1591800">
            <a:off x="3762360" y="5220360"/>
            <a:ext cx="484200" cy="128880"/>
          </a:xfrm>
          <a:prstGeom prst="rightArrow">
            <a:avLst>
              <a:gd name="adj1" fmla="val 50000"/>
              <a:gd name="adj2" fmla="val 6332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Обои Монеты Деньги Крупным планом вблизи"/>
          <p:cNvPicPr/>
          <p:nvPr/>
        </p:nvPicPr>
        <p:blipFill>
          <a:blip r:embed="rId3"/>
          <a:stretch/>
        </p:blipFill>
        <p:spPr>
          <a:xfrm>
            <a:off x="5651640" y="5084640"/>
            <a:ext cx="330804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8280" y="-127080"/>
            <a:ext cx="907272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источники формирования налоговых и неналоговых доходов бюджета в 2016-2018 гг.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06280" y="1015920"/>
          <a:ext cx="8856720" cy="4740480"/>
        </p:xfrm>
        <a:graphic>
          <a:graphicData uri="http://schemas.openxmlformats.org/drawingml/2006/table">
            <a:tbl>
              <a:tblPr/>
              <a:tblGrid>
                <a:gridCol w="2873520"/>
                <a:gridCol w="817560"/>
                <a:gridCol w="884160"/>
                <a:gridCol w="812880"/>
                <a:gridCol w="885600"/>
                <a:gridCol w="782640"/>
                <a:gridCol w="914400"/>
                <a:gridCol w="885960"/>
              </a:tblGrid>
              <a:tr h="39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91919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91919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91919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91919"/>
                          </a:solidFill>
                          <a:latin typeface="Times New Roman"/>
                          <a:ea typeface="Times New Roman"/>
                        </a:rPr>
                        <a:t>(оценк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91919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91919"/>
                          </a:solidFill>
                          <a:latin typeface="Times New Roman"/>
                          <a:ea typeface="Times New Roman"/>
                        </a:rPr>
                        <a:t>(план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2018 к 2017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к общему объе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к общему объе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к общему объе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 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совокупный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иму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 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и при пользовании природными ресурс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я ущерб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Box 1"/>
          <p:cNvSpPr/>
          <p:nvPr/>
        </p:nvSpPr>
        <p:spPr>
          <a:xfrm>
            <a:off x="8254080" y="78264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лн. ру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2" descr=""/>
          <p:cNvPicPr/>
          <p:nvPr/>
        </p:nvPicPr>
        <p:blipFill>
          <a:blip r:embed="rId1"/>
          <a:stretch/>
        </p:blipFill>
        <p:spPr>
          <a:xfrm>
            <a:off x="-108000" y="792000"/>
            <a:ext cx="11509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расходов бюдже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2018-2020 годы(тыс. руб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571680" y="1268280"/>
          <a:ext cx="8178480" cy="44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68280"/>
                    <a:ext cx="8178480" cy="44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бюджетных ассигнований по разделам и подразделам на 2018 год и плановый период 2019 и 2020 годы, тыс.р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24000" y="1197000"/>
          <a:ext cx="8351640" cy="5253120"/>
        </p:xfrm>
        <a:graphic>
          <a:graphicData uri="http://schemas.openxmlformats.org/drawingml/2006/table">
            <a:tbl>
              <a:tblPr/>
              <a:tblGrid>
                <a:gridCol w="4167000"/>
                <a:gridCol w="655560"/>
                <a:gridCol w="574920"/>
                <a:gridCol w="1066680"/>
                <a:gridCol w="903240"/>
                <a:gridCol w="984240"/>
              </a:tblGrid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на 2018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на 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на 2020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27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74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25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  муниципального 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6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2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6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  местных администр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69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2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37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 органов и органов финансового надз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95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4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7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и вневойсковая подготов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6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8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предупреждению и ликвидации последствий чрезвычайных ситуаций и стихийных бедств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6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2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6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7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 и рыболов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е хозяйство (дорожные фонд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5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8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20 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 - 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9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84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36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1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5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4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457200" y="260280"/>
          <a:ext cx="8229600" cy="5300640"/>
        </p:xfrm>
        <a:graphic>
          <a:graphicData uri="http://schemas.openxmlformats.org/drawingml/2006/table">
            <a:tbl>
              <a:tblPr/>
              <a:tblGrid>
                <a:gridCol w="4259160"/>
                <a:gridCol w="719280"/>
                <a:gridCol w="576360"/>
                <a:gridCol w="720720"/>
                <a:gridCol w="1079280"/>
                <a:gridCol w="87480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 40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 87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22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4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школьное 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55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18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88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70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54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19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5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ое образование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ая подготовка, переподготовка и повышение квалифик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67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0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, с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 обеспечение насе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ый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Средства массовой информации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2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еская печать и издатель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2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92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88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 39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ской округ ЗАТО Михайловский</a:t>
            </a: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состоянию на 01.10.2017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04960" y="1634760"/>
            <a:ext cx="51814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ЗАТО Михайловский 19,31 кв.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енность населения  264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тность населения 137 чел/ к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прибывших 221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выбывших 143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енность занятого населения 1361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енность безработных граждан, зарегистрированных в органах службы занятости 8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0,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457200" y="1635120"/>
            <a:ext cx="3048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чень муниципальных программ ЗАТО Михайловский  на 2018 год и плановый период 2019 и 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68360" y="1197000"/>
          <a:ext cx="8064360" cy="5500800"/>
        </p:xfrm>
        <a:graphic>
          <a:graphicData uri="http://schemas.openxmlformats.org/drawingml/2006/table">
            <a:tbl>
              <a:tblPr/>
              <a:tblGrid>
                <a:gridCol w="3744720"/>
                <a:gridCol w="1229040"/>
                <a:gridCol w="992160"/>
                <a:gridCol w="981000"/>
                <a:gridCol w="1117440"/>
              </a:tblGrid>
              <a:tr h="166680">
                <a:tc gridSpan="5"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7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8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Профилактика терроризма и экстремизма в ЗАТО Михайловский на 2016-2018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Молодежная политика и оздоровление детей ЗАТО Михайловский на 2017-2019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Повышение безопасности дорожного движения в ЗАТО Михайловский на 2016-2018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Ремонт автомобильных дорог общего пользования, дворовых территорий многоквартирных домов, проездов к дворовым территориям многоквартирных домов на территории ЗАТО Михайловский  Саратовской области на 2017-2019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6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0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Развитие местного самоуправления в ЗАТО Михайловский Саратовской области на 2018-2020г.г.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Развитие дошкольного образования ЗАТО Михайловский Саратовской области на 2018-2020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55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1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88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Развитие культуры в ЗАТО Михайловский Саратовской области на 2016-2018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7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Развитие физической культуры и спорта в ЗАТО Михайловский Саратовской области" на 2017-2019 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Строительство, реконструкция, капитальный ремонт  жилого фонда, объектов социальной и инженерной инфраструктуры ЗАТО Михайловский Саратовской области на 2016-2018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9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8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75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27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539640" y="333360"/>
          <a:ext cx="7993080" cy="5676840"/>
        </p:xfrm>
        <a:graphic>
          <a:graphicData uri="http://schemas.openxmlformats.org/drawingml/2006/table">
            <a:tbl>
              <a:tblPr/>
              <a:tblGrid>
                <a:gridCol w="3827520"/>
                <a:gridCol w="1184400"/>
                <a:gridCol w="957240"/>
                <a:gridCol w="946080"/>
                <a:gridCol w="1077840"/>
              </a:tblGrid>
              <a:tr h="155880"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стать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8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Благоустройство территории  ЗАТО Михайловский Саратовской области на 2016-2018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нижение рисков и смягчение последствий чрезвычайных ситуаций природного и техногенного характера на территории ЗАТО Михайловский в 2017-2019 годах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0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2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1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Обеспечение населения ЗАТО Михайловский Саратовской области питьевой водой на 2016-2018 годы". "Чистая вода"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Развитие дополнительного образования детей в ЗАТО Михайловский Саратовской области" на 2018 – 2020 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6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Поддержка и развитие печатного средства массовой информации городского округа ЗАТО Михайловский Саратовской области муниципального учреждения "Редакция газеты "Михайловские новости" ЗАТО Михайловский Саратовской области на 2018 - 2020 год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Поддержка и развитие общего образования городского округа ЗАТО Михайловский Саратовской области муниципального общеобразовательного учреждения "Средняя общеобразовательная школа закрытого административно-территориального образования Михайловский Саратовской области" на  2018-2020 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66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70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5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19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Управление имуществом ЗАТО Михайловский на 2018-2020 год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Энергосбережение и повышение энергетической эффективности в ЗАТО Михайловский Саратовской области на период до 2020 год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основных расходов бюджета в 2016-20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8"/>
          <p:cNvGraphicFramePr/>
          <p:nvPr/>
        </p:nvGraphicFramePr>
        <p:xfrm>
          <a:off x="469800" y="1600200"/>
          <a:ext cx="8202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00200"/>
                    <a:ext cx="8202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28760" y="499680"/>
            <a:ext cx="8208720" cy="60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ую часть расходов бюджета городского округа ЗАТО Михайловский составля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ходы на образование, которые включают в себя расходы на оплату труда учителей, воспитателей в школе, детском саду, педагогов в учреждении дополнительного образования, расходы на содержание зданий, ремонт оборудования, приобретение методической литературы и учебников, транспортные расходы, расходы на организацию отдыха детей и др.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ходы в сфере ЖКХ, которые включают в себя расходы на проведение ремонта жилого фонда, включая взносы в фонд капитального ремонта МКД, содержание объектов инженерной инфраструктуры, возмещение убытков муниципальной бани, расходы на благоустройство территории городского округа ЗАТО Михайловский и др.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ходы на культуру и кинематографию, которые включают в себя расходы на оплату труда работников учреждения культуры, расходы на содержание здания, проведение культурно-массовых мероприятий и др.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ходы  на социальную политику включают в себя расходы на выплату гражданам субсидий на оплату жилищно-коммунальных услуг, выплаты компенсации части родительской платы за присмотр и уход за детьми в детских садах, доплаты к пенсиям муниципальным служащи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ходы на общегосударственные вопросы, которые включают в себя расходы на оплату труда муниципальных служащих, расходы на содержание службы материально-технического обеспечения, содержание имущества как движимого так и не движимого, расходы связанные с оценкой недвижимости, признанию прав и регулирование отношений по муниципальной собственности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ое управление администрации ЗАТО Михайловский Саратов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13540 Саратовская область, ЗАТО пос.Михайловский, ул.60 лет Победы,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. 2-12-45; 2-19-4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работы: понедельник – пятница  с 8-00 до 17-00 обед с 13-00 до 14-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, объяснить им планы и действия органов местного самоуправления во время бюджетного года и показать формы возможного взаимодействия по вопросам расходования общественных финан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хема 3" descr=""/>
          <p:cNvPicPr/>
          <p:nvPr/>
        </p:nvPicPr>
        <p:blipFill>
          <a:blip r:embed="rId1"/>
          <a:stretch/>
        </p:blipFill>
        <p:spPr>
          <a:xfrm>
            <a:off x="85680" y="2097000"/>
            <a:ext cx="5076720" cy="45594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6"/>
          <p:cNvSpPr/>
          <p:nvPr/>
        </p:nvSpPr>
        <p:spPr>
          <a:xfrm>
            <a:off x="4086360" y="2036880"/>
            <a:ext cx="45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Граждане должны быть уверены в том, что передаваемые ими в распоряжение государства средства используются прозрачно и эффективно, приносят конкретные результаты как для общества в целом, так и для каждой семьи, для каждого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ая прямоугольная выноска 7"/>
          <p:cNvGrpSpPr/>
          <p:nvPr/>
        </p:nvGrpSpPr>
        <p:grpSpPr>
          <a:xfrm>
            <a:off x="3475080" y="5200560"/>
            <a:ext cx="1554120" cy="1279440"/>
            <a:chOff x="3475080" y="5200560"/>
            <a:chExt cx="1554120" cy="1279440"/>
          </a:xfrm>
        </p:grpSpPr>
        <p:pic>
          <p:nvPicPr>
            <p:cNvPr id="96" name="Скругленная прямоугольная выноска 7" descr=""/>
            <p:cNvPicPr/>
            <p:nvPr/>
          </p:nvPicPr>
          <p:blipFill>
            <a:blip r:embed="rId2"/>
            <a:stretch/>
          </p:blipFill>
          <p:spPr>
            <a:xfrm>
              <a:off x="3475080" y="5200560"/>
              <a:ext cx="15541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556080" y="5494320"/>
              <a:ext cx="13986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99"/>
                  </a:solidFill>
                  <a:latin typeface="Arial"/>
                </a:rPr>
                <a:t>Гражданин как получатель социальных гарант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ая прямоугольная выноска 3"/>
          <p:cNvGrpSpPr/>
          <p:nvPr/>
        </p:nvGrpSpPr>
        <p:grpSpPr>
          <a:xfrm>
            <a:off x="219240" y="2127240"/>
            <a:ext cx="1628640" cy="1244520"/>
            <a:chOff x="219240" y="2127240"/>
            <a:chExt cx="1628640" cy="1244520"/>
          </a:xfrm>
        </p:grpSpPr>
        <p:pic>
          <p:nvPicPr>
            <p:cNvPr id="99" name="Скругленная прямоугольная выноска 3" descr=""/>
            <p:cNvPicPr/>
            <p:nvPr/>
          </p:nvPicPr>
          <p:blipFill>
            <a:blip r:embed="rId3"/>
            <a:stretch/>
          </p:blipFill>
          <p:spPr>
            <a:xfrm>
              <a:off x="219240" y="2127240"/>
              <a:ext cx="16286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99880" y="2209680"/>
              <a:ext cx="14734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Гражданин как налогоплательщи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3D-модели 9" descr="Printed document"/>
          <p:cNvPicPr/>
          <p:nvPr/>
        </p:nvPicPr>
        <p:blipFill>
          <a:blip r:embed="rId4"/>
          <a:stretch/>
        </p:blipFill>
        <p:spPr>
          <a:xfrm>
            <a:off x="6772320" y="3432240"/>
            <a:ext cx="21225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377640"/>
            <a:ext cx="75088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Группа 10"/>
          <p:cNvGrpSpPr/>
          <p:nvPr/>
        </p:nvGrpSpPr>
        <p:grpSpPr>
          <a:xfrm>
            <a:off x="684360" y="981000"/>
            <a:ext cx="7991280" cy="4178520"/>
            <a:chOff x="684360" y="981000"/>
            <a:chExt cx="7991280" cy="4178520"/>
          </a:xfrm>
        </p:grpSpPr>
        <p:sp>
          <p:nvSpPr>
            <p:cNvPr id="104" name="AutoShape 4"/>
            <p:cNvSpPr/>
            <p:nvPr/>
          </p:nvSpPr>
          <p:spPr>
            <a:xfrm>
              <a:off x="684360" y="1432440"/>
              <a:ext cx="2671200" cy="2856960"/>
            </a:xfrm>
            <a:custGeom>
              <a:avLst/>
              <a:gdLst>
                <a:gd name="textAreaLeft" fmla="*/ 136800 w 2671200"/>
                <a:gd name="textAreaRight" fmla="*/ 2534400 w 2671200"/>
                <a:gd name="textAreaTop" fmla="*/ 136800 h 2856960"/>
                <a:gd name="textAreaBottom" fmla="*/ 2720160 h 2856960"/>
              </a:gdLst>
              <a:ahLst/>
              <a:rect l="textAreaLeft" t="textAreaTop" r="textAreaRight" b="textAreaBottom"/>
              <a:pathLst>
                <a:path w="21600" h="23102">
                  <a:moveTo>
                    <a:pt x="3782" y="0"/>
                  </a:moveTo>
                  <a:arcTo wR="3782" hR="3782" stAng="16200000" swAng="-5400000"/>
                  <a:lnTo>
                    <a:pt x="0" y="19320"/>
                  </a:lnTo>
                  <a:arcTo wR="3782" hR="3782" stAng="10800000" swAng="-5400000"/>
                  <a:lnTo>
                    <a:pt x="17818" y="2310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761760" y="1440360"/>
              <a:ext cx="2559240" cy="2803320"/>
            </a:xfrm>
            <a:custGeom>
              <a:avLst/>
              <a:gdLst>
                <a:gd name="textAreaLeft" fmla="*/ 124920 w 2559240"/>
                <a:gd name="textAreaRight" fmla="*/ 2434320 w 2559240"/>
                <a:gd name="textAreaTop" fmla="*/ 124920 h 2803320"/>
                <a:gd name="textAreaBottom" fmla="*/ 2678400 h 2803320"/>
              </a:gdLst>
              <a:ahLst/>
              <a:rect l="textAreaLeft" t="textAreaTop" r="textAreaRight" b="textAreaBottom"/>
              <a:pathLst>
                <a:path w="21600" h="23660">
                  <a:moveTo>
                    <a:pt x="3600" y="0"/>
                  </a:moveTo>
                  <a:arcTo wR="3600" hR="3600" stAng="16200000" swAng="-5400000"/>
                  <a:lnTo>
                    <a:pt x="0" y="20060"/>
                  </a:lnTo>
                  <a:arcTo wR="3600" hR="3600" stAng="10800000" swAng="-5400000"/>
                  <a:lnTo>
                    <a:pt x="18000" y="23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761760" y="3503880"/>
              <a:ext cx="2547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7"/>
            <p:cNvSpPr/>
            <p:nvPr/>
          </p:nvSpPr>
          <p:spPr>
            <a:xfrm>
              <a:off x="761760" y="1462680"/>
              <a:ext cx="2547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8"/>
            <p:cNvSpPr/>
            <p:nvPr/>
          </p:nvSpPr>
          <p:spPr>
            <a:xfrm>
              <a:off x="1031040" y="4289760"/>
              <a:ext cx="23313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828000" y="4313520"/>
              <a:ext cx="248112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1353600" y="10530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юдж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684360" y="1629000"/>
              <a:ext cx="263772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а образования и расходования денежных средств, предназначенных для финансового обеспечения задач и функций государства и местного самоуправл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3569400" y="1432440"/>
              <a:ext cx="2331360" cy="2856960"/>
            </a:xfrm>
            <a:custGeom>
              <a:avLst/>
              <a:gdLst>
                <a:gd name="textAreaLeft" fmla="*/ 119520 w 2331360"/>
                <a:gd name="textAreaRight" fmla="*/ 2211840 w 2331360"/>
                <a:gd name="textAreaTop" fmla="*/ 119520 h 2856960"/>
                <a:gd name="textAreaBottom" fmla="*/ 2737440 h 2856960"/>
              </a:gdLst>
              <a:ahLst/>
              <a:rect l="textAreaLeft" t="textAreaTop" r="textAreaRight" b="textAreaBottom"/>
              <a:pathLst>
                <a:path w="21600" h="26469">
                  <a:moveTo>
                    <a:pt x="3782" y="0"/>
                  </a:moveTo>
                  <a:arcTo wR="3782" hR="3782" stAng="16200000" swAng="-5400000"/>
                  <a:lnTo>
                    <a:pt x="0" y="22687"/>
                  </a:lnTo>
                  <a:arcTo wR="3782" hR="3782" stAng="10800000" swAng="-5400000"/>
                  <a:lnTo>
                    <a:pt x="17818" y="264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3605400" y="1440360"/>
              <a:ext cx="2261160" cy="2803320"/>
            </a:xfrm>
            <a:custGeom>
              <a:avLst/>
              <a:gdLst>
                <a:gd name="textAreaLeft" fmla="*/ 110160 w 2261160"/>
                <a:gd name="textAreaRight" fmla="*/ 2151000 w 2261160"/>
                <a:gd name="textAreaTop" fmla="*/ 110160 h 2803320"/>
                <a:gd name="textAreaBottom" fmla="*/ 2693160 h 2803320"/>
              </a:gdLst>
              <a:ahLst/>
              <a:rect l="textAreaLeft" t="textAreaTop" r="textAreaRight" b="textAreaBottom"/>
              <a:pathLst>
                <a:path w="21600" h="26778">
                  <a:moveTo>
                    <a:pt x="3600" y="0"/>
                  </a:moveTo>
                  <a:arcTo wR="3600" hR="3600" stAng="16200000" swAng="-5400000"/>
                  <a:lnTo>
                    <a:pt x="0" y="23178"/>
                  </a:lnTo>
                  <a:arcTo wR="3600" hR="3600" stAng="10800000" swAng="-5400000"/>
                  <a:lnTo>
                    <a:pt x="18000" y="267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21"/>
            <p:cNvSpPr/>
            <p:nvPr/>
          </p:nvSpPr>
          <p:spPr>
            <a:xfrm>
              <a:off x="3624120" y="3503880"/>
              <a:ext cx="22302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22"/>
            <p:cNvSpPr/>
            <p:nvPr/>
          </p:nvSpPr>
          <p:spPr>
            <a:xfrm>
              <a:off x="3624120" y="1462680"/>
              <a:ext cx="22302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9"/>
            <p:cNvSpPr/>
            <p:nvPr/>
          </p:nvSpPr>
          <p:spPr>
            <a:xfrm>
              <a:off x="3651480" y="1886400"/>
              <a:ext cx="2216520" cy="19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упающие в бюджет денежные средства (налоги юридических и физических лиц, штрафы, административные платежи и сборы, финансовая помощь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0"/>
            <p:cNvSpPr/>
            <p:nvPr/>
          </p:nvSpPr>
          <p:spPr>
            <a:xfrm>
              <a:off x="3572640" y="4289760"/>
              <a:ext cx="23313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1"/>
            <p:cNvSpPr/>
            <p:nvPr/>
          </p:nvSpPr>
          <p:spPr>
            <a:xfrm>
              <a:off x="3620520" y="4313520"/>
              <a:ext cx="22302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3"/>
            <p:cNvSpPr/>
            <p:nvPr/>
          </p:nvSpPr>
          <p:spPr>
            <a:xfrm>
              <a:off x="6114600" y="1432440"/>
              <a:ext cx="2331360" cy="2856960"/>
            </a:xfrm>
            <a:custGeom>
              <a:avLst/>
              <a:gdLst>
                <a:gd name="textAreaLeft" fmla="*/ 119520 w 2331360"/>
                <a:gd name="textAreaRight" fmla="*/ 2211840 w 2331360"/>
                <a:gd name="textAreaTop" fmla="*/ 119520 h 2856960"/>
                <a:gd name="textAreaBottom" fmla="*/ 2737440 h 2856960"/>
              </a:gdLst>
              <a:ahLst/>
              <a:rect l="textAreaLeft" t="textAreaTop" r="textAreaRight" b="textAreaBottom"/>
              <a:pathLst>
                <a:path w="21600" h="26469">
                  <a:moveTo>
                    <a:pt x="3782" y="0"/>
                  </a:moveTo>
                  <a:arcTo wR="3782" hR="3782" stAng="16200000" swAng="-5400000"/>
                  <a:lnTo>
                    <a:pt x="0" y="22687"/>
                  </a:lnTo>
                  <a:arcTo wR="3782" hR="3782" stAng="10800000" swAng="-5400000"/>
                  <a:lnTo>
                    <a:pt x="17818" y="264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4"/>
            <p:cNvSpPr/>
            <p:nvPr/>
          </p:nvSpPr>
          <p:spPr>
            <a:xfrm>
              <a:off x="6150600" y="1440360"/>
              <a:ext cx="2525040" cy="2803320"/>
            </a:xfrm>
            <a:custGeom>
              <a:avLst/>
              <a:gdLst>
                <a:gd name="textAreaLeft" fmla="*/ 123120 w 2525040"/>
                <a:gd name="textAreaRight" fmla="*/ 2401920 w 2525040"/>
                <a:gd name="textAreaTop" fmla="*/ 123120 h 2803320"/>
                <a:gd name="textAreaBottom" fmla="*/ 2680200 h 2803320"/>
              </a:gdLst>
              <a:ahLst/>
              <a:rect l="textAreaLeft" t="textAreaTop" r="textAreaRight" b="textAreaBottom"/>
              <a:pathLst>
                <a:path w="21600" h="23980">
                  <a:moveTo>
                    <a:pt x="3600" y="0"/>
                  </a:moveTo>
                  <a:arcTo wR="3600" hR="3600" stAng="16200000" swAng="-5400000"/>
                  <a:lnTo>
                    <a:pt x="0" y="20380"/>
                  </a:lnTo>
                  <a:arcTo wR="3600" hR="3600" stAng="10800000" swAng="-5400000"/>
                  <a:lnTo>
                    <a:pt x="18000" y="23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5"/>
            <p:cNvSpPr/>
            <p:nvPr/>
          </p:nvSpPr>
          <p:spPr>
            <a:xfrm>
              <a:off x="6169320" y="3503880"/>
              <a:ext cx="24285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6"/>
            <p:cNvSpPr/>
            <p:nvPr/>
          </p:nvSpPr>
          <p:spPr>
            <a:xfrm>
              <a:off x="6169320" y="1462680"/>
              <a:ext cx="24285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7"/>
            <p:cNvGrpSpPr/>
            <p:nvPr/>
          </p:nvGrpSpPr>
          <p:grpSpPr>
            <a:xfrm>
              <a:off x="6270480" y="1053000"/>
              <a:ext cx="2171520" cy="642600"/>
              <a:chOff x="6270480" y="1053000"/>
              <a:chExt cx="2171520" cy="642600"/>
            </a:xfrm>
          </p:grpSpPr>
          <p:sp>
            <p:nvSpPr>
              <p:cNvPr id="124" name="Oval 38"/>
              <p:cNvSpPr/>
              <p:nvPr/>
            </p:nvSpPr>
            <p:spPr>
              <a:xfrm>
                <a:off x="6270480" y="1053000"/>
                <a:ext cx="21715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39"/>
              <p:cNvSpPr/>
              <p:nvPr/>
            </p:nvSpPr>
            <p:spPr>
              <a:xfrm>
                <a:off x="6299640" y="1053000"/>
                <a:ext cx="210024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40"/>
              <p:cNvSpPr/>
              <p:nvPr/>
            </p:nvSpPr>
            <p:spPr>
              <a:xfrm>
                <a:off x="6319080" y="1061640"/>
                <a:ext cx="205164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41"/>
              <p:cNvSpPr/>
              <p:nvPr/>
            </p:nvSpPr>
            <p:spPr>
              <a:xfrm>
                <a:off x="6341760" y="1067400"/>
                <a:ext cx="195048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42"/>
              <p:cNvSpPr/>
              <p:nvPr/>
            </p:nvSpPr>
            <p:spPr>
              <a:xfrm>
                <a:off x="6455520" y="1082880"/>
                <a:ext cx="173304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 Box 43"/>
            <p:cNvSpPr/>
            <p:nvPr/>
          </p:nvSpPr>
          <p:spPr>
            <a:xfrm>
              <a:off x="6658200" y="1052280"/>
              <a:ext cx="139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хо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юдж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4"/>
            <p:cNvSpPr/>
            <p:nvPr/>
          </p:nvSpPr>
          <p:spPr>
            <a:xfrm>
              <a:off x="6196680" y="1886400"/>
              <a:ext cx="24012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плачиваемые из бюджета денежные средства (социальные выплаты населению, содержание муниципальных учреждений, капитальные ремонты, благоустройство и другие)                                                       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45"/>
            <p:cNvSpPr/>
            <p:nvPr/>
          </p:nvSpPr>
          <p:spPr>
            <a:xfrm>
              <a:off x="6107760" y="4289760"/>
              <a:ext cx="23313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6"/>
            <p:cNvSpPr/>
            <p:nvPr/>
          </p:nvSpPr>
          <p:spPr>
            <a:xfrm>
              <a:off x="6155640" y="4313520"/>
              <a:ext cx="2448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8"/>
            <p:cNvSpPr/>
            <p:nvPr/>
          </p:nvSpPr>
          <p:spPr>
            <a:xfrm>
              <a:off x="839520" y="981000"/>
              <a:ext cx="232740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9"/>
            <p:cNvSpPr/>
            <p:nvPr/>
          </p:nvSpPr>
          <p:spPr>
            <a:xfrm>
              <a:off x="863640" y="985680"/>
              <a:ext cx="225072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0"/>
            <p:cNvSpPr/>
            <p:nvPr/>
          </p:nvSpPr>
          <p:spPr>
            <a:xfrm>
              <a:off x="891720" y="989640"/>
              <a:ext cx="21985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1"/>
            <p:cNvSpPr/>
            <p:nvPr/>
          </p:nvSpPr>
          <p:spPr>
            <a:xfrm>
              <a:off x="915840" y="995400"/>
              <a:ext cx="209052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2"/>
            <p:cNvSpPr/>
            <p:nvPr/>
          </p:nvSpPr>
          <p:spPr>
            <a:xfrm>
              <a:off x="1037880" y="1010520"/>
              <a:ext cx="185724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8"/>
            <p:cNvSpPr/>
            <p:nvPr/>
          </p:nvSpPr>
          <p:spPr>
            <a:xfrm>
              <a:off x="3710160" y="981000"/>
              <a:ext cx="201708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9"/>
            <p:cNvSpPr/>
            <p:nvPr/>
          </p:nvSpPr>
          <p:spPr>
            <a:xfrm>
              <a:off x="3731400" y="985680"/>
              <a:ext cx="19508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40"/>
            <p:cNvSpPr/>
            <p:nvPr/>
          </p:nvSpPr>
          <p:spPr>
            <a:xfrm>
              <a:off x="3755520" y="989640"/>
              <a:ext cx="190548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1"/>
            <p:cNvSpPr/>
            <p:nvPr/>
          </p:nvSpPr>
          <p:spPr>
            <a:xfrm>
              <a:off x="3776400" y="995400"/>
              <a:ext cx="181188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2"/>
            <p:cNvSpPr/>
            <p:nvPr/>
          </p:nvSpPr>
          <p:spPr>
            <a:xfrm>
              <a:off x="3882240" y="1010520"/>
              <a:ext cx="160956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3"/>
          <p:cNvSpPr/>
          <p:nvPr/>
        </p:nvSpPr>
        <p:spPr>
          <a:xfrm>
            <a:off x="3924360" y="98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1332000" y="1052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57"/>
          <p:cNvSpPr/>
          <p:nvPr/>
        </p:nvSpPr>
        <p:spPr>
          <a:xfrm>
            <a:off x="324000" y="4869000"/>
            <a:ext cx="8424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сходная часть бюджета превышает доходную, то бюджет формируется с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ышение доходов над расходами  образует положительный остаток бюджета (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цит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Прямоугольник 28"/>
          <p:cNvGrpSpPr/>
          <p:nvPr/>
        </p:nvGrpSpPr>
        <p:grpSpPr>
          <a:xfrm>
            <a:off x="311040" y="5516640"/>
            <a:ext cx="8832960" cy="1073160"/>
            <a:chOff x="311040" y="5516640"/>
            <a:chExt cx="8832960" cy="1073160"/>
          </a:xfrm>
        </p:grpSpPr>
        <p:pic>
          <p:nvPicPr>
            <p:cNvPr id="147" name="Прямоугольник 28" descr=""/>
            <p:cNvPicPr/>
            <p:nvPr/>
          </p:nvPicPr>
          <p:blipFill>
            <a:blip r:embed="rId1"/>
            <a:stretch/>
          </p:blipFill>
          <p:spPr>
            <a:xfrm>
              <a:off x="311040" y="5516640"/>
              <a:ext cx="88329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72960" y="5580000"/>
              <a:ext cx="871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балансированность бюджета по доходам и расходам 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ополагающее требование, предъявляемое к органам, составляющим и утверждающим бюдж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96440" y="2342160"/>
            <a:ext cx="6227280" cy="3325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993300"/>
            </a:solidFill>
            <a:round/>
          </a:ln>
        </p:spPr>
        <p:txBody>
          <a:bodyPr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юдж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ородского округа ЗАТО Михайловский – это свод доходов и расходов на очередной финансовый год, ежегодно утверждаемый решением Собрания депутатов городского округа ЗАТО Михайл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3059280" y="189000"/>
            <a:ext cx="2517480" cy="204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Схема 3" descr=""/>
          <p:cNvPicPr/>
          <p:nvPr/>
        </p:nvPicPr>
        <p:blipFill>
          <a:blip r:embed="rId1"/>
          <a:stretch/>
        </p:blipFill>
        <p:spPr>
          <a:xfrm>
            <a:off x="291960" y="1494000"/>
            <a:ext cx="7486920" cy="4870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2916360" y="1484280"/>
            <a:ext cx="5903640" cy="1083960"/>
          </a:xfrm>
          <a:prstGeom prst="rect">
            <a:avLst/>
          </a:prstGeom>
          <a:solidFill>
            <a:srgbClr val="f1f9f9"/>
          </a:solidFill>
          <a:ln w="381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начинается за 9 месяцев до начала очередного финансового года с  разработки и последующей защиты прогноза показателей социально-экономического развития.  Одновременно утверждается перечень мероприятий по разработке проекта бюджета, ответственные исполнители и срок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2916360" y="2637000"/>
            <a:ext cx="5903640" cy="228708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на 2018 год  и плановый период 2019 и 2020 годов глава  ЗАТ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хайловский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носит на рассмотрение собрания депутатов городского округа ЗАТО Михайловский не позднее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ноября текущего год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оект бюджета подлежит официальному обнародованию и по нему проводятся публичные слушания. Для этого проект бюджета публикуется в газете «Михайловские новости» или размещается на официальном сайте администрации </a:t>
            </a:r>
            <a:r>
              <a:rPr b="0" lang="en-US" sz="1300" spc="-1" strike="noStrike">
                <a:solidFill>
                  <a:srgbClr val="ff3300"/>
                </a:solidFill>
                <a:latin typeface="Arial"/>
              </a:rPr>
              <a:t>www.mihailovski.ru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 В слушаниях могут участвовать граждане, проживающие в ЗАТО Михайловский, а также представители организаций, осуществляющих деятельность на территории городского округ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2916360" y="5064120"/>
            <a:ext cx="5905440" cy="1753920"/>
          </a:xfrm>
          <a:prstGeom prst="rect">
            <a:avLst/>
          </a:prstGeom>
          <a:solidFill>
            <a:srgbClr val="ceceef"/>
          </a:solidFill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оект бюджета городского округа ЗАТО Михайловский, с учетом предложений, высказанных на публичных слушаниях, с учетом заключения, подготовленного контрольно-счетным органом городского округа ЗАТО Михайловский рассматривается и утверждается на заседании Собрания депутатов городского округа ЗАТО Михайловский. Решение о бюджете городского округа ЗАТО Михайловский вступает в силу с 01 января очередного года. Принятое решение о  бюджете подлежит обнародованию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Этапы составления и утверждения бюдж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9760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жданин, его участие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бюджет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TextBox 122"/>
          <p:cNvGrpSpPr/>
          <p:nvPr/>
        </p:nvGrpSpPr>
        <p:grpSpPr>
          <a:xfrm>
            <a:off x="179280" y="4437000"/>
            <a:ext cx="4127400" cy="2157480"/>
            <a:chOff x="179280" y="4437000"/>
            <a:chExt cx="4127400" cy="2157480"/>
          </a:xfrm>
        </p:grpSpPr>
        <p:pic>
          <p:nvPicPr>
            <p:cNvPr id="158" name="TextBox 122" descr=""/>
            <p:cNvPicPr/>
            <p:nvPr/>
          </p:nvPicPr>
          <p:blipFill>
            <a:blip r:embed="rId1"/>
            <a:stretch/>
          </p:blipFill>
          <p:spPr>
            <a:xfrm>
              <a:off x="179280" y="4437000"/>
              <a:ext cx="412740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6"/>
            <p:cNvSpPr/>
            <p:nvPr/>
          </p:nvSpPr>
          <p:spPr>
            <a:xfrm>
              <a:off x="241200" y="4476960"/>
              <a:ext cx="3960720" cy="2012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учает социальные гарантии - расходная часть бюджета (образование, здравоохранение, социальные льготы и другие направления социальных гарантий населен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Прямая соединительная линия 125"/>
          <p:cNvSpPr/>
          <p:nvPr/>
        </p:nvSpPr>
        <p:spPr>
          <a:xfrm>
            <a:off x="4500720" y="907920"/>
            <a:ext cx="0" cy="5545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28" descr="ЖКХ.jpg"/>
          <p:cNvPicPr/>
          <p:nvPr/>
        </p:nvPicPr>
        <p:blipFill>
          <a:blip r:embed="rId2"/>
          <a:stretch/>
        </p:blipFill>
        <p:spPr>
          <a:xfrm>
            <a:off x="2627280" y="5230800"/>
            <a:ext cx="1116000" cy="1378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29" descr="образование.jpg"/>
          <p:cNvPicPr/>
          <p:nvPr/>
        </p:nvPicPr>
        <p:blipFill>
          <a:blip r:embed="rId3"/>
          <a:stretch/>
        </p:blipFill>
        <p:spPr>
          <a:xfrm>
            <a:off x="195120" y="5241960"/>
            <a:ext cx="1371600" cy="1450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30" descr="здрав.jpg"/>
          <p:cNvPicPr/>
          <p:nvPr/>
        </p:nvPicPr>
        <p:blipFill>
          <a:blip r:embed="rId4"/>
          <a:stretch/>
        </p:blipFill>
        <p:spPr>
          <a:xfrm>
            <a:off x="1474920" y="5413320"/>
            <a:ext cx="1238040" cy="14446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3"/>
          <p:cNvSpPr/>
          <p:nvPr/>
        </p:nvSpPr>
        <p:spPr>
          <a:xfrm>
            <a:off x="4572000" y="3141720"/>
            <a:ext cx="1028880" cy="457200"/>
          </a:xfrm>
          <a:custGeom>
            <a:avLst/>
            <a:gdLst>
              <a:gd name="textAreaLeft" fmla="*/ 0 w 1028880"/>
              <a:gd name="textAreaRight" fmla="*/ 1029240 w 1028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4"/>
          <p:cNvSpPr/>
          <p:nvPr/>
        </p:nvSpPr>
        <p:spPr>
          <a:xfrm>
            <a:off x="4427640" y="4869000"/>
            <a:ext cx="1028520" cy="457200"/>
          </a:xfrm>
          <a:custGeom>
            <a:avLst/>
            <a:gdLst>
              <a:gd name="textAreaLeft" fmla="*/ 0 w 1028520"/>
              <a:gd name="textAreaRight" fmla="*/ 1028520 w 1028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7"/>
          <p:cNvSpPr/>
          <p:nvPr/>
        </p:nvSpPr>
        <p:spPr>
          <a:xfrm>
            <a:off x="5651640" y="2492280"/>
            <a:ext cx="3097080" cy="16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убличные слушания по проекту бюджета  городского округа ЗАТО Михайловский на очередной финансовый год и плановый пери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8"/>
          <p:cNvSpPr/>
          <p:nvPr/>
        </p:nvSpPr>
        <p:spPr>
          <a:xfrm>
            <a:off x="5508720" y="4365720"/>
            <a:ext cx="342900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убличные слушания  по  проекту отчета об исполнения бюджета городского округа ЗАТО Михайловский за отчетный финансовый год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3"/>
          <p:cNvSpPr/>
          <p:nvPr/>
        </p:nvSpPr>
        <p:spPr>
          <a:xfrm>
            <a:off x="142920" y="2071800"/>
            <a:ext cx="4500360" cy="614160"/>
          </a:xfrm>
          <a:prstGeom prst="downArrow">
            <a:avLst>
              <a:gd name="adj1" fmla="val 71815"/>
              <a:gd name="adj2" fmla="val 62796"/>
            </a:avLst>
          </a:prstGeom>
          <a:gradFill rotWithShape="0">
            <a:gsLst>
              <a:gs pos="0">
                <a:srgbClr val="afafaf"/>
              </a:gs>
              <a:gs pos="100000">
                <a:srgbClr val="e7e7e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ЛОГОПЛАТЕЛЬ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TextBox 131"/>
          <p:cNvGrpSpPr/>
          <p:nvPr/>
        </p:nvGrpSpPr>
        <p:grpSpPr>
          <a:xfrm>
            <a:off x="5078520" y="1122480"/>
            <a:ext cx="3857400" cy="1846080"/>
            <a:chOff x="5078520" y="1122480"/>
            <a:chExt cx="3857400" cy="1846080"/>
          </a:xfrm>
        </p:grpSpPr>
        <p:pic>
          <p:nvPicPr>
            <p:cNvPr id="171" name="TextBox 131" descr=""/>
            <p:cNvPicPr/>
            <p:nvPr/>
          </p:nvPicPr>
          <p:blipFill>
            <a:blip r:embed="rId5"/>
            <a:stretch/>
          </p:blipFill>
          <p:spPr>
            <a:xfrm>
              <a:off x="5078520" y="1122480"/>
              <a:ext cx="3857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192640" y="1214280"/>
              <a:ext cx="3635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зможности влияния гражданина на состав бюдж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TextBox 119"/>
          <p:cNvGrpSpPr/>
          <p:nvPr/>
        </p:nvGrpSpPr>
        <p:grpSpPr>
          <a:xfrm>
            <a:off x="725400" y="950760"/>
            <a:ext cx="3370320" cy="1212840"/>
            <a:chOff x="725400" y="950760"/>
            <a:chExt cx="3370320" cy="1212840"/>
          </a:xfrm>
        </p:grpSpPr>
        <p:pic>
          <p:nvPicPr>
            <p:cNvPr id="174" name="TextBox 119" descr=""/>
            <p:cNvPicPr/>
            <p:nvPr/>
          </p:nvPicPr>
          <p:blipFill>
            <a:blip r:embed="rId6"/>
            <a:stretch/>
          </p:blipFill>
          <p:spPr>
            <a:xfrm>
              <a:off x="725400" y="950760"/>
              <a:ext cx="33703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85880" y="1000080"/>
              <a:ext cx="3238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могает формировать доходную часть бюджета (налог на доходы физических лиц, налог на имущество и др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127"/>
          <p:cNvGrpSpPr/>
          <p:nvPr/>
        </p:nvGrpSpPr>
        <p:grpSpPr>
          <a:xfrm>
            <a:off x="1054080" y="2627280"/>
            <a:ext cx="2408400" cy="890640"/>
            <a:chOff x="1054080" y="2627280"/>
            <a:chExt cx="2408400" cy="890640"/>
          </a:xfrm>
        </p:grpSpPr>
        <p:pic>
          <p:nvPicPr>
            <p:cNvPr id="177" name="Овал 127" descr=""/>
            <p:cNvPicPr/>
            <p:nvPr/>
          </p:nvPicPr>
          <p:blipFill>
            <a:blip r:embed="rId7"/>
            <a:stretch/>
          </p:blipFill>
          <p:spPr>
            <a:xfrm>
              <a:off x="1054080" y="2627280"/>
              <a:ext cx="240840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419120" y="2770200"/>
              <a:ext cx="16812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9194d"/>
                  </a:solidFill>
                  <a:latin typeface="Times New Roman"/>
                  <a:ea typeface="Times New Roman"/>
                </a:rPr>
                <a:t>БЮДЖ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126"/>
          <p:cNvSpPr/>
          <p:nvPr/>
        </p:nvSpPr>
        <p:spPr>
          <a:xfrm>
            <a:off x="0" y="3573360"/>
            <a:ext cx="4427640" cy="1231920"/>
          </a:xfrm>
          <a:prstGeom prst="downArrow">
            <a:avLst>
              <a:gd name="adj1" fmla="val 66222"/>
              <a:gd name="adj2" fmla="val 500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ЛУЧАТЕЛЬ СОЦИАЛЬНЫХ ГАРАН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ы, на основе которых составляет финансовый орган проект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1332000" y="1844640"/>
            <a:ext cx="6697440" cy="752040"/>
          </a:xfrm>
          <a:prstGeom prst="rect">
            <a:avLst/>
          </a:prstGeom>
          <a:gradFill rotWithShape="0">
            <a:gsLst>
              <a:gs pos="0">
                <a:srgbClr val="badde1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ное послание Президент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1332000" y="2781360"/>
            <a:ext cx="6697440" cy="752040"/>
          </a:xfrm>
          <a:prstGeom prst="rect">
            <a:avLst/>
          </a:prstGeom>
          <a:gradFill rotWithShape="0">
            <a:gsLst>
              <a:gs pos="0">
                <a:srgbClr val="badde1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городского округа ЗАТО Михай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1332000" y="3716280"/>
            <a:ext cx="6697440" cy="1081080"/>
          </a:xfrm>
          <a:prstGeom prst="rect">
            <a:avLst/>
          </a:prstGeom>
          <a:gradFill rotWithShape="0">
            <a:gsLst>
              <a:gs pos="0">
                <a:srgbClr val="badde1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бюджетной и налоговой политики городского округа ЗАТО Михай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1332000" y="5084640"/>
            <a:ext cx="6697440" cy="752040"/>
          </a:xfrm>
          <a:prstGeom prst="rect">
            <a:avLst/>
          </a:prstGeom>
          <a:gradFill rotWithShape="0">
            <a:gsLst>
              <a:gs pos="0">
                <a:srgbClr val="badde1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ые программы городского округа ЗАТО Михай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3"/>
          <p:cNvSpPr/>
          <p:nvPr/>
        </p:nvSpPr>
        <p:spPr>
          <a:xfrm>
            <a:off x="250920" y="2579760"/>
            <a:ext cx="864216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аправления бюдже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основных параметров городского бюджета исходя из ожидаемого прогноза поступлений доходов и допустимого уровня муниципального дол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ирование бюджетных ассигнований на реализацию муниципальных программ с учетом результатов их реализации за предыдущий год, а также в тесной увязке с целевыми индикаторами и показателями, характеризующими достижение поставленных целей указанных программ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иление текущего контроля и ответственности за выполнение муниципальных зада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допущение увеличения действующих и принятия новых расходных обязательств, не обеспеченных финансовыми источниками, а также применения бюджетного маневра, означающего, что любые дополнительные расходы обеспечиваются за счет внутреннего перераспределения средств с наименее приоритет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426960" y="82440"/>
            <a:ext cx="844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4c6a"/>
                </a:solidFill>
                <a:latin typeface="Arial"/>
                <a:ea typeface="Arial"/>
              </a:rPr>
              <a:t>Основные направления бюджетной политики ЗАТО Михайловский на 2018 год и плановый период 2019 и 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Скругленный прямоугольник 5"/>
          <p:cNvGrpSpPr/>
          <p:nvPr/>
        </p:nvGrpSpPr>
        <p:grpSpPr>
          <a:xfrm>
            <a:off x="182520" y="974880"/>
            <a:ext cx="8882280" cy="1244520"/>
            <a:chOff x="182520" y="974880"/>
            <a:chExt cx="8882280" cy="1244520"/>
          </a:xfrm>
        </p:grpSpPr>
        <p:pic>
          <p:nvPicPr>
            <p:cNvPr id="188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82520" y="974880"/>
              <a:ext cx="88822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3080" y="1138320"/>
              <a:ext cx="86166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Box 6"/>
          <p:cNvSpPr/>
          <p:nvPr/>
        </p:nvSpPr>
        <p:spPr>
          <a:xfrm>
            <a:off x="673200" y="109872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реализации бюджетной политики в 2017 году: обеспечение сбалансированной  устойчивости бюджетной системы округа на основе стабильной налоговой политики с целью максимального выполнения принятых обязательств; выявление внутренних резервов в расходах городского бюджета с целью их перераспределения в пользу приоритетных направлений, в том числе задач, обозначенных в Указах Президента Российской Федерации; своевременная реализация антикризисных мероприятий; повышение открытости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17" descr=""/>
          <p:cNvPicPr/>
          <p:nvPr/>
        </p:nvPicPr>
        <p:blipFill>
          <a:blip r:embed="rId2"/>
          <a:stretch/>
        </p:blipFill>
        <p:spPr>
          <a:xfrm>
            <a:off x="14400" y="901800"/>
            <a:ext cx="658800" cy="6588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8" descr=""/>
          <p:cNvPicPr/>
          <p:nvPr/>
        </p:nvPicPr>
        <p:blipFill>
          <a:blip r:embed="rId3"/>
          <a:stretch/>
        </p:blipFill>
        <p:spPr>
          <a:xfrm>
            <a:off x="8486640" y="901800"/>
            <a:ext cx="663840" cy="6588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2"/>
          <p:cNvSpPr/>
          <p:nvPr/>
        </p:nvSpPr>
        <p:spPr>
          <a:xfrm>
            <a:off x="8532720" y="1795320"/>
            <a:ext cx="6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39" descr=""/>
          <p:cNvPicPr/>
          <p:nvPr/>
        </p:nvPicPr>
        <p:blipFill>
          <a:blip r:embed="rId4"/>
          <a:stretch/>
        </p:blipFill>
        <p:spPr>
          <a:xfrm>
            <a:off x="0" y="2781360"/>
            <a:ext cx="51120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0" descr=""/>
          <p:cNvPicPr/>
          <p:nvPr/>
        </p:nvPicPr>
        <p:blipFill>
          <a:blip r:embed="rId5"/>
          <a:stretch/>
        </p:blipFill>
        <p:spPr>
          <a:xfrm>
            <a:off x="0" y="3645000"/>
            <a:ext cx="511200" cy="4665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2" descr=""/>
          <p:cNvPicPr/>
          <p:nvPr/>
        </p:nvPicPr>
        <p:blipFill>
          <a:blip r:embed="rId6"/>
          <a:stretch/>
        </p:blipFill>
        <p:spPr>
          <a:xfrm>
            <a:off x="0" y="5084640"/>
            <a:ext cx="511200" cy="466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4" descr=""/>
          <p:cNvPicPr/>
          <p:nvPr/>
        </p:nvPicPr>
        <p:blipFill>
          <a:blip r:embed="rId7"/>
          <a:stretch/>
        </p:blipFill>
        <p:spPr>
          <a:xfrm>
            <a:off x="0" y="4437000"/>
            <a:ext cx="511200" cy="46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09:58:04Z</dcterms:created>
  <dc:creator/>
  <dc:description/>
  <dc:language>en-US</dc:language>
  <cp:lastModifiedBy/>
  <dcterms:modified xsi:type="dcterms:W3CDTF">2017-12-20T12:47:16Z</dcterms:modified>
  <cp:revision>1</cp:revision>
  <dc:subject/>
  <dc:title/>
</cp:coreProperties>
</file>